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F994-6143-49C7-8901-B67A5DAB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344-DA06-40F5-970F-DD3016BF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3626-0B1C-47E9-8D1B-692EF6E4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EA1-C701-48B0-BE34-312FC1CC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FB9-9B6C-4DA4-9FCE-27E18171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64AD-E1AB-4374-A299-C54F90BD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3FA-C45F-4553-A64A-8ED03FA8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F1B-F737-461B-B744-A34705BE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79B-9918-4A03-B136-D53A9E31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97A-8611-42E5-A741-227000D0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CE4-6C89-4C8B-BDD1-7E9000AB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1BA9-447F-4443-980B-7680FCF7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882E-347E-48C8-9472-3915AAA5B34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imes New Roman"/>
              </a:rPr>
              <a:t>LAITTE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ikron oheislaitt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oheisliitänn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irjoitti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äytö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erkkokortit ja multimedialaitt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3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krotietokonelaittei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äytt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äppäimistö ja hii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skusyksikk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skusyksikön toiminnalliset lohk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aläh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skusmui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ajennusväyl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amuistilaitteet ja väyl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791320" y="4495680"/>
            <a:ext cx="2851200" cy="1898640"/>
            <a:chOff x="5791320" y="4495680"/>
            <a:chExt cx="2851200" cy="189864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6705720" y="4495680"/>
              <a:ext cx="1936800" cy="18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4800600"/>
              <a:ext cx="2009880" cy="159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09:57:52Z</dcterms:created>
  <dc:creator>atk</dc:creator>
  <dc:description/>
  <dc:language>en-US</dc:language>
  <cp:lastModifiedBy>Kurssi</cp:lastModifiedBy>
  <dcterms:modified xsi:type="dcterms:W3CDTF">2003-02-17T11:10:50Z</dcterms:modified>
  <cp:revision>4</cp:revision>
  <dc:subject/>
  <dc:title>LAITTEET </dc:title>
</cp:coreProperties>
</file>